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AF1-BE2E-45C0-84B5-B2A5B18D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658D-EF1F-4859-BD88-9E3E1079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3A5-4E38-44BB-8AA8-D90236C0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0FEA-E90E-46E4-B912-0F422DBD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F65E-FA97-4BA6-AE3A-38B336B7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D205-A913-4570-B09F-9D9AA801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29B6-D016-4150-A887-28A7AE11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5BC4-D19F-4BDE-9693-77E75D1F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2476-2FFA-46D0-B401-5FE2EB35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D9EB-69C8-4E40-A8BB-F49CF169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593-242F-476F-9335-3C5AE91D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A86F-4047-47DA-8FA7-F0F9B8EE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E5ED-C933-4D7C-BD87-11FB109CB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8.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onential Growth and Dec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2390760"/>
            <a:ext cx="7467480" cy="3019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16002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xponential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0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534520" cy="2341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" y="4267080"/>
            <a:ext cx="80010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17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8839080" cy="153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80880" y="2971800"/>
            <a:ext cx="6248520" cy="1359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80880" y="4495680"/>
            <a:ext cx="762012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9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815364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10480" cy="3217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56386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3200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" y="3049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xponential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2832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5867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4572000"/>
            <a:ext cx="44956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u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plain the difference between modeling using an exponential growth function and modeling using an exponential dec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Remember to date and highlight this entr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5:36:40Z</dcterms:created>
  <dc:creator>Susannah Graham</dc:creator>
  <dc:description/>
  <dc:language>en-US</dc:language>
  <cp:lastModifiedBy>Susannah Graham</cp:lastModifiedBy>
  <dcterms:modified xsi:type="dcterms:W3CDTF">2009-08-04T21:44:46Z</dcterms:modified>
  <cp:revision>2</cp:revision>
  <dc:subject/>
  <dc:title>Lesson 8.8 Exponential Growth and Decay</dc:title>
</cp:coreProperties>
</file>